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A8E0-E84E-437D-8DF8-4C0158A4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6144-8BBC-4D57-8AAF-7F8FADB1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3C68-39ED-41B1-A936-8C2F2C50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081F-0403-4FA3-A9F9-6D6CBEA8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D5DA-F366-49F2-AA68-FB62BFED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9A36-D4A5-4CD6-ADD7-EDF461E6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C04B-24B3-480F-90A5-4EFCF174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4E89-8DDC-4BC3-A89D-7A2EE920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2EDC-EBDA-44C5-ADCA-8E2844EF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9091-9206-4674-9ACA-5F1EFE50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A19C-0200-455F-88A8-50B8537C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F980-50D3-4441-A490-CCD2B787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822C-44C3-4A0F-BCD5-E7361AA92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arrotmuseum.co.uk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scle of an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ral famous sayings in Englis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not what you say; it’s how you say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not what you know; it’s what you can pro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aking an argument, or a thesis, you must support that argument with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evidence must be valid and useful and bias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id you get this evidence from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s sour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fic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a person on the stre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ource of the evidence is invalid, it is not worth u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you trying to prove that Coca-Cola is bad for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do your research on a website dedicated to carro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arrotmuseum.co.u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ormation here will be for carrots, and not for the harmful side effects, or delicious refreshment that is Coca-C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c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l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evidence that is useful and 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e have learned, Bias is the reasons that affect the opinion of a person, company or thing towards an id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.) Starbucks thinks Starbucks is the grea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, if you are looking for evidence that states Starbucks coffee is a popular coffee bar, do not get this information from the CEO of Starbu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earching for evidence in Info-text articles, remember to ask yoursel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use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bia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val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answer is no to any of these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hy would you us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ly, the same principal can be applied to your responses to literature in the provincial ex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ertain that the evidence is useful to your argument, not confus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02:06:59Z</dcterms:created>
  <dc:creator>nmt</dc:creator>
  <dc:description/>
  <dc:language>en-US</dc:language>
  <cp:lastModifiedBy>T</cp:lastModifiedBy>
  <dcterms:modified xsi:type="dcterms:W3CDTF">2012-02-22T01:27:35Z</dcterms:modified>
  <cp:revision>3</cp:revision>
  <dc:subject/>
  <dc:title>Evidence</dc:title>
</cp:coreProperties>
</file>